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9CD7-3404-4531-A3DA-0F8E692A22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DA8C-5AA9-4034-B02B-B89988C7817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9D7F-8336-4464-853E-2CE79026411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EB2-7839-4DEE-AB32-E37590C7A2B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F070-5F76-4AFE-BFEC-987F8087C30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9F8D-F5E1-4438-9BE9-713A5672F24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46E2-8F98-42C9-A63C-2EE5E5A3924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1450-393B-4C64-8AD5-FE96348EE74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7312-2EF8-4A03-BDB3-7A44318C7B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7333-06DA-4C28-BD1F-907E5767EA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74EF-92F1-4B87-9F01-83F7870B81D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5DDC-6EDD-4247-8236-89C3AEA030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61F9-5B1C-48D4-BB00-8112FFC1F4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3DB8-3820-44B3-A73B-8BE4E47B79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8028-1605-499C-9A97-2814A2C01C2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07BC2-5431-4DEA-9B81-4C1D9B2B2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06697C-6E2D-403B-B490-EA2B7058107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328F3-4F57-4729-9F36-282EFFB94F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7B5D7-DA0E-4CD4-B727-D5F1C7A68C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04263-DEDA-4631-8EF5-AF5DF34DCC7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630E9-01F3-43DE-B777-7C6251DA0FA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799BE0-09DD-4385-9B07-008C177604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2AB46-7785-4A57-A2DD-D80D83DC391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8C2F0-642D-4C9D-A18C-F8F9EF87730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36ADC-FDFD-4158-840F-69D8CBA8746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95FA88-7590-4AD2-A705-3857B4048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F32698-4E1A-4345-91A9-2C7291EDF7A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3B363-EC92-4714-BB53-2E553E68B03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60FFF-7D1F-490B-BB13-87FA050442F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5A41E-9606-4421-A679-737CD5B8104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AAF47-998D-44A1-A562-59F384C02ED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D247E-924F-4C97-BAE9-2418D5B3218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81205-6324-490E-BF51-5E6E95A2650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6303F-D39E-4044-9C12-32E39C1714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CA612-2D9E-4188-83CB-EBE7F4664CB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13471-0016-45F2-BAAD-972A2DF51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A731-139D-416F-B2A7-D0DE9C2E3C6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12991-B24F-4899-A27A-32375BA4D32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EAC93-2E04-44D2-87A2-AE7AE32E56B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AD20D-0383-49C0-AFF9-746E1B5127C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5FD7-AF31-40F9-A710-B5301B2D024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620A-F83B-4654-AE1A-F2052E2DE5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AC1B-C6D8-4331-828C-35B8CD3F77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3EC1-6961-441B-8EC5-8982188E98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FF5A-D913-4548-8296-3B542EA32D1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F6D0-C2F1-4341-9C0B-EB321CC28A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B4DD-B49C-429E-8195-1F634DA4C2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B38E-CCE4-4808-BE80-252181BD625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8D53-D114-4DD0-A9E2-CDFE6A47388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750E-754C-44BD-A480-78B0F1A9C18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AD2F-9D12-40D4-9C2F-6C3EE8B44F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998E-B877-4830-948F-632AFAAA53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8659-4152-4E6B-8133-AF43074D6ED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EF1504-FFDF-432D-8B29-DD98630C37A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69F30-EF6B-4767-9B26-EE5E2F07C4C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4EF69-0258-4D9B-B2D1-61A51713D15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CED40-B252-4772-9767-90E85D12399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838D2-E3CD-4F7F-9480-C330857649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1E2E-824D-40D5-84AD-F10CDB9968A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96269-AC46-408D-82F2-E386617765B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9B814-4903-47EB-B53A-489819651C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08BBA-C615-4E63-8244-0966A9FAD14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010A5-5F0B-4792-8743-840AECC6EBF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40CF0-E73E-4FAC-8154-9EBC0ABC038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784A5-CFE4-4E74-A788-94E77C758E1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27799-9490-4CB9-8C74-EE0BE97F091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9FE5F-6FEE-4696-8450-EA8ECFACAC3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AD25D-BF3F-4C8C-A784-8B44E6A1EDC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5910E-B3E0-4DA5-AD8A-67943ADA0E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CF76-CDD7-49C8-84C4-8A677C6CD85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9057C-A5D4-4482-9751-56096DE05BF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7C3FD-F883-4893-9AB1-467A39C80C6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83834-6B54-4D8A-AE65-D4D2033CED3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8E98E-C0A4-4C01-9B40-90BC85F310A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E6BB5-CC16-4D2B-903B-B5519C6D0D4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19F31B-43A7-47AF-A69B-B5263FF0BAD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5D7E7-4DA1-4195-95B1-1F685C33B0C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9B77BC-112C-47CB-8BC1-F9798AA0481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5680A-7353-481A-AE5C-D12BE468394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6FC3-7905-4977-A0EC-BA17B1FC75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D485-D336-46A1-B3D5-D552A2803FD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8108-E91C-44B0-BBD7-3114994216F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6318-7461-4C8A-9F02-7CB4A99F1AF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2C60-1AEF-44CA-B20D-3680E079E97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5FD3D-2460-47D3-8B46-F7906EA6E58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E6D1-C85C-428B-B412-099C9CF701C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6C997-2D28-4C65-AF9B-C8846C25DA5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69BA-3881-4E66-B202-C7A853564DD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B1897-87FB-4C2A-96EE-9F5ABFBD7C3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B9DA-06D3-4340-932D-58F2C4A4C28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D089-62D8-450F-9F75-9C28565594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133A-5F54-46F2-8896-C2FDE33D99E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7229-9559-4CC0-8217-1C9D9BBFC78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494A8F-B930-4303-A040-94B30ED6FCA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A2039C-6E62-47F2-9A2D-373A1E38184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775CD0-F580-43FC-A776-B5C02A791D8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AC9E7-8B86-4768-8C0D-B16B8B9610F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55E952-36A1-4F8D-9069-DC2A79F7935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D25EF1-2165-40EB-8421-81309CD4311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4AEA3B-0570-462B-A836-C74A037FBA0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86CDEC-590B-41ED-A621-A2B2216DB26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83D45E-1435-4035-8E02-5608A3547F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5A43-068B-4EEF-911D-B4D524E9CCA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46A4BC-A5D9-4136-956D-8E66AAA4536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3BEF8F-8B6B-4DB9-94CE-E31CDE3861A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E02FB2-6331-4795-9DB9-351D25AF426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CFDF2-C6F3-4F21-B74A-9D8D393641F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D4A90-DCBF-41FC-A2CA-14079E9E606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71AF9-0050-4449-8549-3C9D98155D0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5E5EE-90E6-43C6-93E1-1F10174F76A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A97AE-31FB-42B1-9F1E-6F94A9D3BCA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87D01-61F5-4F1E-92A9-97D743ED465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66A41-3169-419C-8016-C771F8E78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1587-8740-4D8A-B55E-4767FC5AB58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01282-336D-4C45-A54B-EA823FE3759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AD27A-E925-4F19-AB12-711EE6195C8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783B7-F272-468C-AE98-F17D9CA7402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2BCFE-6E16-42E4-AB47-EBB56C88939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76F4B-9F4D-4843-AF2D-60BD85A6709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D77A-0464-4CA9-B4ED-A0E45A318E0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301AC-B22F-4D1C-9F55-651369402C9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86AFC-FEE3-436D-963E-296CF231F19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5928-2DDB-40A8-AA6B-36196755D1C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56ADC-65C7-4974-B298-F679131C73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3503-E6FC-4FAD-9895-61CF82657B1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6D138-BC68-435C-B129-63711C8BF88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C97A1-2111-4BAF-A251-A5BB1D3A3A3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D736-223F-4DDD-942D-5B0231A0D46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2F0B5-93D2-4881-9477-603C2B32D30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98F85-E261-42F0-8816-24534813FAC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8E61-EAF0-4979-8139-3E6FEA4E3F9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D484-3B4D-43FA-9C5E-9A39A23CA73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48CBAE-680E-457B-9DD0-B8D9AF15A5F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11A901-DEFE-46F5-839E-B1320350529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36673-95AF-439D-8CFF-7F99E3495D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116A-785D-408A-AD60-FCEBD495F15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AF9A52-D037-4E33-AC10-88A49EDDB75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2BC7A1-D781-4CA8-A710-35C6A3EBF26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4714B7-C54C-4C56-A3FF-B83BAC43FF4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0A2ABE-BBA3-4EBD-BC70-CF6E7598B73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B5E425-2F06-47D2-A8F2-AC5D503AE57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9AB22-AC75-4CEC-B4C6-16BBAE9DC67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C82764-210A-428E-AFE6-A722F2886A2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AD2F1F-04CA-462B-B4B6-28F28D007A8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4E915-756B-4ADC-82F7-774BBCDB48D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02A18-E82B-4273-A5EB-F668FFDC88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4145-5797-4203-970A-BC7CFB8A067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048D2-63B2-4DD2-841B-02C7C7AEC8C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7ED3A-3218-48ED-BB07-1048D1E71A4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350EB-D17D-4C08-A5E4-141021B24CB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DCEBD-83FF-4F21-9788-3FC503B0B2A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548DF-7D7A-4FB3-A446-FF82972855A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3B3D2-A6C4-4073-9405-2CFA5178A25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05DDA-647E-4205-A51F-8780FFC722B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3BC1C-D690-4FAE-911F-01DDB4FB21A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164C3-70D6-4613-BC03-63E6CE134C2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8DF65-3942-4129-B39F-121A1F6855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4748-A4A6-4BD1-BB6D-508D489AE2A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0222B-72B6-4246-9166-FF2781D6212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FF54B-9415-44FA-B16C-6D961179D67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34D7A-9B30-4E56-A1E7-437651EDD9B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2FE88-E06F-40E0-957B-A9EFC97697E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68BD6-382F-458A-A418-2C1F8EB9D1B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72DB3-A09D-41F5-9837-058F8F73E0D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59C40-F8E9-4BA3-8821-B59B9C2F28B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09606-E451-4180-A89F-FE7BF3E0426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9BA1-1385-4D87-8B8B-E51D1B235DD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D0AF7-7753-49CF-B5AA-E9E0FCDEA4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A9D02-11BE-4F3F-8C9A-73C142677C6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82D2-AE86-44C2-9515-A5B008053F5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69D69-8509-4505-A545-A710194519D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585ABA-90F3-4379-8D5F-DDE0F716797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53313E-D52D-45EE-8825-35F9FE1650A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6894E0-7C81-4507-913D-0E9CEE7F9F7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D8292D-A802-493E-8732-A181FDCA401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FD5197-97F6-470C-B1EC-A1E66B1501B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3511A9-6ECA-4E92-B7D5-D7D51B73D93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C81901-1F37-4140-8775-53E60B034E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13F040-AB72-45DE-AA5B-0FD02C74A5D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7F8779-1354-401F-8669-429DFCDB6CD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2D5B15-2978-4D4D-97CD-B6D5A68E01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FCAF4E-D121-4F57-A77F-29E9E8E969C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A9AC7-342F-439A-B29C-3AC2C583A46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291E8-2F2A-4924-A7F9-651035ADE05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1806D-DA07-479B-88A3-72280A65427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AAB27-9ECD-41E6-95FD-133ED07BDCE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DFE3D-B745-4FBA-910F-85D9349D3A3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CBA12-8F34-4CBF-B882-F2180D64F4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F493D-F610-4A7F-A9F1-B3FFF9CB7CE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AB72F-1B2B-4F32-925A-D60CCC2D629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88921-CD9C-4F6A-8247-7794B190C19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990B6-0DAC-4325-BC93-6EE305AFDFC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F305A-B901-45C0-8364-8A30FE75C8B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E172D-7ECA-419C-97E1-B5C5D7C87E9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3D6BE-C7F4-4AE8-858E-BA451D58584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A52E1-423D-4850-80DD-8B17B006272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26B82-A842-4228-AA45-58E26DC6188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9A2D7-29CB-45F6-A446-58D038BE5C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B4CF0-709F-462C-98E4-5EEC1DB7280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29C18-3B69-424E-AC8B-C74C4BB9718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56BEC-F77A-4215-BD11-50B580F15F8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8100-84A6-4331-A913-CEBF8FE9502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72DF-5226-41D1-9D4E-A12B216FBC2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73DB2-A819-401E-8A08-21B09C3EA1E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29F1F-348F-4991-81E6-74EDF207AD7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CD7D7-1E82-4C8E-B9A0-06F30209E4A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9D6BD-1AEA-4DB7-92DB-37146DEFBDB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60E233-9E43-462C-9FFF-7515E1F427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9B5F0E-082A-469B-904E-A61BAADE804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CB218B-9732-4641-9BF3-8A6B79E3FFE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B83F81-9A75-462E-9614-33E33AC19A8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CC385-C905-4EF6-B210-E23A4FB586D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20D19E-FC57-4082-B0FC-C01DAAD58C1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88C153-AAE9-4372-8FAB-B705557EB83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395E93-9AB4-40F7-BCAD-93868D490DD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628B66-F801-4C20-A078-1F4D6DF05C4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AD0E42-22DB-4AD4-9219-C59EDDFEA90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AA2576-C037-4434-A4C3-A4E2AC596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B25534-1C58-42A3-AB26-88CEA09CD82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66D569-DEAB-4946-B66D-A30B937F7F3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D55C3F-6852-47F5-A30D-88867A5431E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3700E-4E9B-4E38-AEED-BE663ADEB2B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0AF2B8-32BE-4C73-8FAD-F63BA727E05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C979B-1C22-4604-94E9-DF7BDCA6F51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28C88-0FEC-4569-9188-1E9E3C9F8DC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93E85-5172-49A2-9E6E-F7688F4F042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0C009-6372-46E0-97D4-576DF738903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0367C7-BC11-49DE-97F2-15BA6D7168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3292F9-0527-46EE-A6B3-3EBAC661D4B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580BBB-3690-4A19-8EBB-C329FDB6921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CD0D6B-1B1C-41F5-9AE2-B617CED85DC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1AF5C-1C2E-44BD-8B17-B125EA8DE16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D31F0-10A4-4DC3-B003-A5EC799CFC6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DAF0C-30AA-456B-8FA1-B951F97F020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94623-C7B9-4BA0-80BC-79E9C882AE9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C90E-C48A-41C4-A3AD-09611D88FAD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F4180-C51F-40AC-8B45-982FB442884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4ED5-67E2-4665-AAF2-DADB4739D8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CD632-3580-47C6-B1EC-10DD733497A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CEF7-AF95-4D3D-9849-DF9064236E2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0E6B6-90B3-4EAE-97A5-1336E42445A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66000-AA1F-49D5-950F-6F2A2E5F985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2E589-D359-41E7-B618-528095F0404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ACCD-0C83-441F-A31E-EF8EC2F2C8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1020-1935-4265-AD3B-987C1975F0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46A5-6007-4AB1-96B3-41657B253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478B-9483-4BC8-A31A-91A8DEBFB8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D630-A449-4315-ACBD-EC56D65EA3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E26D-FDE6-43DB-87A0-140F27406D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8B1A-D127-4A21-88FF-C6933D9A15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21A3-823D-447B-9421-13F886B823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1304-01F9-4022-B5C2-AC82706BEA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6FBB-F3CE-4EA0-B239-27666BCC5C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6B9D-C270-4E6B-A156-9F10E7C305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D493-1F72-4AA3-AA94-381391F04B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EF5-A6BE-4E48-A386-DC153CF0C74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0BF-0C7C-42DA-925C-72CE4589DA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B0C-9AD8-45C8-B3C4-305EEB40CF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70A-19EC-4CEB-A71A-572A396BA32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B0B-E9CA-4E0F-9C84-F9E02ADF1D4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503-3C96-45CE-BAD7-EAC5447C02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8E7-A446-4DCC-BBE0-4021DE11D3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225-571A-4A9E-9D87-19A88B1739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D37-93F7-4FF8-93D3-CB91513F2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83E-CBCE-4CD7-9E5C-A19225E341D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86A-077E-4A07-99F7-0EAB7A6CCF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B71-BCCA-4E87-97FC-58BD829BB1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5A3B7-CA6C-4AB6-888B-60541931060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2CFE7-B57C-444A-83AC-EE55123DC6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5E999-F5AE-42D9-AA24-B77DD95779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C88A6-5A0F-43E5-82EB-1842E4B729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D6CB9-2B52-4C30-90C4-EB831643481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7DC07-6B04-4CDD-AF0C-56226B0397C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47596-9DCC-4855-BF25-F3FD8B441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84F79-E31C-481C-94F1-2777DEBEB2B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B520F-B80D-471A-8AE7-9DDF3888B4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E0DC0-BD22-4C85-80F4-A3C063F63F6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D124F-6940-4BAA-A08C-F7A35FDFEB9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743CB-4C1C-4BC9-BD2C-1D465CCB67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3211F-8758-41B8-9DB5-B9F934DDD73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9326F-FC52-48BA-9C8F-7934E736DFA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ADFBD-406F-4754-BD17-E36E27F8B18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E8ABE-A994-457F-ABEF-75C4DBA0B9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F3086-6BCF-4F26-8950-E928207B7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E4D0A-271E-4C87-B835-3D87225936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EADDB-92B7-425B-A92A-537C70B3D2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33BD6-4CED-4936-BC15-FB8A30F14A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611D0-311C-4223-9C90-EC7F00EDAD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DC6EA-4B85-4748-B5C2-9FF95C2E26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FAEF1-2F5A-4EBB-A722-C2A73E4672C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EB393-63CF-4A43-B5D9-C0135FE2F28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1A6C-70AE-4952-B898-FDEC8F895E3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7610-2070-4FFF-B17A-AE227963F4A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0762-158F-4CB7-81C6-377A2FA04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8067-AFF7-461D-BC25-32EB2FE8B88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3F23-1613-487D-8811-958DE25AE09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1A1-3EE1-43DF-BF49-38214F1E231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9DE0-D96F-4457-A382-D976B9395C5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8763-4FD8-4B4F-A4B8-48462C09F9A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699-0134-4F97-8D5D-CC69DFE7F1B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859E-66E2-4CF2-A702-F23E6D565C0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92DE-9757-457D-856B-EB81B4689B8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D87-0661-4D4E-B152-E497EC146AF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0E6F-AE5C-42EE-8DE8-841370AF10B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938B-9338-4221-9EB9-978E06A0E4E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8868-14E2-4FA9-97D4-D303713D1F4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1CC9-E59D-4643-B624-6B7FC855202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467A-0E17-4EF6-A705-8A6568A228C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3CC1-46C2-47AE-9414-4F4192BA072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D7E-5BB8-41A0-BC1B-E97CF899236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2A20-6CBD-4710-BD84-EE458D3105E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0AC4-72B1-4F9C-A37C-DAEF8704589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D284-AFBE-4783-AA5C-6D310C26780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DBEC-F5C4-4C69-95B3-A91C0FC8119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BBD6-55DD-41D4-9A49-0F96627D40B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0128-FE00-4D23-9602-9EA352F187E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F1A3-E73F-46FE-B8CB-1ADD4C7860C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FDA0-CC41-4CB7-B8F4-B389995D34F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535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arranquilla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Diciembre d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5493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16000" y="523404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*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52440" y="498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1046160" y="1557360"/>
            <a:ext cx="7050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*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157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190520" y="1727280"/>
            <a:ext cx="6761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971640" y="549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15772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 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 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4120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870120" y="1628640"/>
            <a:ext cx="74023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327320" y="4762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6"/>
          <p:cNvSpPr/>
          <p:nvPr/>
        </p:nvSpPr>
        <p:spPr>
          <a:xfrm>
            <a:off x="719280" y="5222880"/>
            <a:ext cx="7351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8 CuadroTexto"/>
          <p:cNvSpPr/>
          <p:nvPr/>
        </p:nvSpPr>
        <p:spPr>
          <a:xfrm>
            <a:off x="112212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833400" y="1413000"/>
            <a:ext cx="74772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4936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4292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941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979560" y="1557360"/>
            <a:ext cx="718488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620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otal 13 ciudades, áreas metropolitanas y 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Agosto - Octu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166760" y="1635120"/>
            <a:ext cx="6645240" cy="16495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270080" y="3716280"/>
            <a:ext cx="65530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tlán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925560" y="1844640"/>
            <a:ext cx="7574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2060640"/>
            <a:ext cx="7575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987640" y="3451320"/>
            <a:ext cx="6048360" cy="207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267000" y="289080"/>
            <a:ext cx="569772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90792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(2006 -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546200" y="2068560"/>
            <a:ext cx="6415200" cy="344808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030040" y="56214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461960" y="1676520"/>
            <a:ext cx="6220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gosto - Octubre (2014 – 2015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74840" y="2421000"/>
            <a:ext cx="8194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gosto - Octu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scar Eduardo Reyes Nieto</cp:lastModifiedBy>
  <cp:lastPrinted>2015-09-24T21:51:34Z</cp:lastPrinted>
  <dcterms:modified xsi:type="dcterms:W3CDTF">2015-12-11T12:56:22Z</dcterms:modified>
  <cp:revision>191</cp:revision>
  <dc:subject/>
  <dc:title>Diapositiva 1</dc:title>
</cp:coreProperties>
</file>